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1A4-C3AA-4E25-B9A7-9F12C083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605-3256-43ED-9C1D-E68BC901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4B5-C2D8-4799-BF92-D7FAD858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EE7-6933-457B-89D3-F7CA73A4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967C-9313-4E72-9A18-E5607AF4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1677-41F2-4E51-B483-40EC2982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B345-EC2B-43CA-9D4B-21AE8204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DBF8-1D4B-4808-BD7D-0CD01D0D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342F-BD29-4331-BE9B-AED8AF36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285A-FC37-4B7E-B7AB-DE4E69A1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F90D-EECB-467F-9E4C-94EC6EBD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DBF-588F-440E-94F7-27EF9074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F1D4-F470-4538-904E-B0FDB7D3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B31E-649E-4BF0-8260-263F800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7E1E-7159-4784-B045-C6671E64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5D74-0222-4FB5-BAE2-1D3BE9DB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C1C6-1B13-4820-B56A-C3D89EF9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810E-224A-487B-B52C-D61F2811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62F-2CF9-4209-83FD-14165B94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8D7-9496-4A4D-BA40-0C019D56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54E-1AC8-4C61-B12E-61669AD3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245-0735-4CF7-B3E5-B6502EF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AE5-7223-4CA6-ACBB-AFC26D92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AD8-1A5E-41C0-976F-C344104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2219-6580-4214-AE38-D268F187B9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721-93B5-4750-B38A-DDBEF49FF0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ality P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an as part of church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ed well to pass on church teaching when most of the population was illite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cated the struggle between good and evil, virtue and v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05520" y="2514600"/>
            <a:ext cx="3138480" cy="2868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ality P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76360" y="13716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tually lost connection with the church and became entertai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travel from town to t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plays were written anonymously (humility was a virtue at the ti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597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ality P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the dilemmas faced by the average person trying to lead a mor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often abstractions that represent qualities of human nature (Charity, Greed, Lu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evolved into the form of drama popular in Shakespeare’s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8954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5:01:44Z</dcterms:created>
  <dc:creator>Titusville Area School Dist.</dc:creator>
  <dc:description/>
  <dc:language>en-US</dc:language>
  <cp:lastModifiedBy>Titusville Area School Dist.</cp:lastModifiedBy>
  <dcterms:modified xsi:type="dcterms:W3CDTF">2005-09-15T15:15:41Z</dcterms:modified>
  <cp:revision>2</cp:revision>
  <dc:subject/>
  <dc:title>Morality Plays</dc:title>
</cp:coreProperties>
</file>